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DE00A-99D5-41D6-ADA2-B7339C73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1BFB-E492-4FE5-9570-AA496CDB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F988-9DE4-42A0-BC83-3DFC4D6C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99ED-35E5-4C2D-9220-58FBCA3C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2335-A19E-4540-A82B-C86B360F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B225-4FEA-4613-90FE-582C961C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075A-FEC9-4EEC-8822-333D7486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0A4D-4903-4491-A6BA-B8504CDC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7EF3-5615-4CAA-B777-A6E4F81D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9B41-BA62-4BE5-9E3E-6547025C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E6B5-30B5-4C25-8AC9-B6C3A9A8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45C7-3F02-45B1-9635-CBFD4F9F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D3C0-B071-4ACC-9FEE-97201752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8BCE-B43E-4B12-883C-3766F9EC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9B6C-1659-4687-9688-EB260B58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D646-302E-49CB-8FB6-EE1C3F63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58ED-52CF-4C97-B2D6-E82BFA58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22338-8959-4195-8E04-ED36B5C7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929C-6DDF-42EB-AACF-97DD96CE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6BE7F-6C44-4636-BB13-BB074EAA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51A0F-00FE-4CC1-8993-BC0150A4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D818C-8FA5-46B6-9A64-F54A141A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A802E-263D-4FCD-B97D-12D1D3F1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73CA-11A8-45C7-9BD1-D28C6B9B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8624-FF4C-466D-8F30-A7A04B632A6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DD5E-B80F-4717-A32E-F30FAE08FBF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410840"/>
            <a:ext cx="892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9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243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ът наш повеле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бди и се мол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б си, о, грешнич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Мен всичко намери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0980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ългът е плат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ристос го е взел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ехът ми, кат' кръв червен, стана от сняг по-бя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ал силата Твоя мож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Спас блаж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етната на грех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изличи съвсе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0980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ългът е плат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ристос го е взел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ехът ми, кат' кръв червен, стана от сняг по-бя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Ей, пред престола Тв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, чист и съвърш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гам венеца м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еещ: „Дългът е платен!"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0980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ългът е плат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ристос го е взел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ехът ми, кат' кръв червен, стана от сняг по-бя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30T08:36:07Z</dcterms:modified>
  <cp:revision>67</cp:revision>
  <dc:subject/>
  <dc:title>Slide 1</dc:title>
</cp:coreProperties>
</file>